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00AEB-76C1-46C2-A548-C667DE1DD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7CFAA-EE0C-4168-8EC7-50B370AA0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FA91A-755D-4403-8587-AFA5068B5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32F83-6B4E-42BC-A9A0-4396D74C3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0EF8B-B2A0-4B28-A6F3-E92BE4997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3F1EC-D362-44FE-BA86-A17D3D8A0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82333-FFBF-4C3A-9EBB-625021320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65A81-75A2-4924-ADAF-93594FDB8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49021-13B5-49AC-874C-F69D2EFE4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FA3A0-996D-4362-96FC-F16974B71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E773C-3D49-483A-B1D5-8F711A677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1C560-8AAF-4E9C-8BD9-AA05B9927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37FE8-53E6-4039-AA49-23A725697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5D2B0-D06B-463E-9000-957D3DFA2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214BA-926A-4932-B9E8-7BC2151B4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8FA0B-F2FC-41C8-AD57-F4C6FDC8A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5E4D1-F176-4E8D-8E3A-1F3CC1E30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28F4F3-2214-4F77-B4C5-020B5AA43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1075FA-B941-4A9F-B361-85D8BED7C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44EB1D-65BD-4E30-9455-11299F28E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CB7C22-CA7B-4153-A896-40062C1BE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16884E-DC29-47BE-B317-77D14BA6C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4CD0A-8FFB-4537-8AC3-2F0EB9632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42EC4D-492B-4274-AF3A-A16785D6B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D0BBCA-5BED-4EC9-9612-97C211881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A8EA07-D7E3-4D93-A89C-177CCFE5B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CCF2D6-A781-4F2F-A3AC-1DC8A38CE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4A9AC0-9257-4633-AEE1-3787401BC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EE55C6-76CF-4F5A-9374-4D3E6B885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255240-F556-4834-AF0C-D273D811B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A77913-7B80-423A-9833-C3F9DCAE0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13D5DB-3D7F-4DDF-95C4-EB0C3619C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20B2D2-7B15-475B-8017-3723F17BE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77EC1-EE67-4A68-991F-E9C61BC09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F88240-AA1C-42D4-BCB3-E47EB02B6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C9541A-808F-40EB-9E70-F2D14C268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8FC479-6380-448A-9004-18B13719F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2D5809-8631-461A-96A6-D744B28BB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922345-AC6A-41BD-BE35-AF8332EFA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A70DAD-35F3-4F8A-BB50-33ECCF065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0362A9-D4A7-452C-A1DA-9FEEC8211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436913-9B27-4A84-85B9-A64C4BFA5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40E0AF-9BD1-4C0B-98C8-F1A914DAA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AF1E4-2397-4EB7-81C6-964C2801B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561DD-F3DB-4677-A8D3-3CDA052C4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3552B-A797-4567-870B-C50A2CD46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FF23F-FECF-4EC9-A3F5-54CD7FDC6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0EDEA-A366-44FC-B8A5-567182C4D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a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6A64A-EB12-4875-B242-B9401F3742CD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a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83D01-7F77-4F22-A90F-7C4219F16147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a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15649-2923-4525-97D4-FFAC8229EB00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a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54" name="Freeform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5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57" name="Freeform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59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0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1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2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45EDD-64A6-4199-A9E6-166BD983B0FF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Title 1" descr=""/>
          <p:cNvPicPr/>
          <p:nvPr/>
        </p:nvPicPr>
        <p:blipFill>
          <a:blip r:embed="rId1"/>
          <a:stretch/>
        </p:blipFill>
        <p:spPr>
          <a:xfrm>
            <a:off x="201600" y="-60480"/>
            <a:ext cx="8570880" cy="326736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609480" y="3048120"/>
            <a:ext cx="7778880" cy="350496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Dr. Beverly J. Buckles, DSW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Dean, School of Behavioral Health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Chair and Professor, Department of Social Work and Social Ecology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Co-Chair, International Behavioral Health Trauma Team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Loma Linda University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Dr. Kimberly R. Freeman, PhD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Associate Executive Chair  and Associate Professor, Department of Social Work and Social Ecology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Member, International Behavioral Health Trauma Team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Loma Linda University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dentifique a los voluntarios por adelantado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550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-</a:t>
            </a:r>
            <a:r>
              <a:rPr b="0" lang="en-US" sz="22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¿A quién debería reclutar?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Constantia"/>
              </a:rPr>
              <a:t>Idealmente a individuos con experiencia trabajando con niños de diferentes edades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Constantia"/>
              </a:rPr>
              <a:t>Voluntarios adultos masculinos que puedan asistir con asuntos de seguridad además de ayudar con los jovencitos mayores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Personas dignas de confianza y emocionalmente estable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Calibri"/>
              </a:rPr>
              <a:t>Voluntario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Title 1" descr=""/>
          <p:cNvPicPr/>
          <p:nvPr/>
        </p:nvPicPr>
        <p:blipFill>
          <a:blip r:embed="rId1"/>
          <a:stretch/>
        </p:blipFill>
        <p:spPr>
          <a:xfrm>
            <a:off x="73080" y="701640"/>
            <a:ext cx="8699400" cy="1150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5" name=""/>
          <p:cNvGraphicFramePr/>
          <p:nvPr/>
        </p:nvGraphicFramePr>
        <p:xfrm>
          <a:off x="609480" y="1981080"/>
          <a:ext cx="7848720" cy="4267440"/>
        </p:xfrm>
        <a:graphic>
          <a:graphicData uri="http://schemas.openxmlformats.org/drawingml/2006/table">
            <a:tbl>
              <a:tblPr/>
              <a:tblGrid>
                <a:gridCol w="2975040"/>
                <a:gridCol w="1968480"/>
                <a:gridCol w="2905200"/>
              </a:tblGrid>
              <a:tr h="328680">
                <a:tc gridSpan="3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Sugerencia para proporción de adulto/niñ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55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# de Voluntarios Adult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# de Niñ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Edades de Niñ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73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Menos de 24 mes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8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25 to 35 mes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8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36 meses a 5 añ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8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6 a 9 añ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8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9 a 12 añ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8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13 a 16 añ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4240">
                <a:tc gridSpan="3">
                  <a:txBody>
                    <a:bodyPr lIns="68760" rIns="68760" tIns="0" bIns="0" anchor="t">
                      <a:noAutofit/>
                    </a:bodyPr>
                    <a:p>
                      <a:pPr marL="285840" indent="-2858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*2-3 Voluntarios adicionales para asistir con el monitoreo de seguridad y para ayudar a niños con necesidades especiales, comidas, etc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533520" y="213336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59200" indent="-25920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s-MX" sz="2200" spc="-1" strike="noStrike">
                <a:solidFill>
                  <a:srgbClr val="000000"/>
                </a:solidFill>
                <a:latin typeface="Constantia"/>
              </a:rPr>
              <a:t>Si van a haber niños quedándose a dormir en el centro de refugio por las noches, va a ser necesario que un voluntario adulto se encargue del turno de noche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259200" indent="-25920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Siempre y cuando </a:t>
            </a:r>
            <a:r>
              <a:rPr b="0" lang="es-MX" sz="19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haya varios niños durmiendo en la misma habitación,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de</a:t>
            </a:r>
            <a:r>
              <a:rPr b="0" lang="es-MX" sz="22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bería de haber un mínimo de dos voluntarios despiertos por la noche para proveer mejor seguridad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Constantia"/>
              </a:rPr>
              <a:t>Si hay niños durmiendo en varias habitaciones, se van a necesitar más voluntarios. Por ejemplo, debería de haber el mínimo de un voluntario despierto a toda hora en cada habitación donde hay niños durmiendo. Nota: Estos voluntarios son adicionales a los dos voluntarios encargados del turno de noche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51920" y="53316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Calibri"/>
              </a:rPr>
              <a:t>Voluntarios—Necesidades Adicionales</a:t>
            </a:r>
            <a:endParaRPr b="0" lang="en-US" sz="43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nstantia"/>
              </a:rPr>
              <a:t>Provea orientación sobre los reglamentos de seguridad del centro de refugi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nstantia"/>
              </a:rPr>
              <a:t>Desarrolle un plan general de todo lo que se tiene que hacer en caso de emergenci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nstantia"/>
              </a:rPr>
              <a:t>Repase/entrene a individuos para que estén conscientes de su función como voluntari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nstantia"/>
              </a:rPr>
              <a:t>Enfatice las necesidades de seguridad, además de las necesidades de protección de los niño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Calibri"/>
              </a:rPr>
              <a:t>Preparando a los voluntario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248040" indent="-2480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nstantia"/>
              </a:rPr>
              <a:t>Repase/entrene a los voluntarios a reconocer y proveer por las necesidades básicas, físicas, y emocionales de los niño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nstantia"/>
              </a:rPr>
              <a:t>Repase/entrene a los voluntarios a entrevistar a los padres de familia, con el propósito de recolectar información de contacto, además de datos básicos de cada niño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nstantia"/>
              </a:rPr>
              <a:t>Repase/entrene a los voluntarios a tratar con situaciones de angustia y conducta disruptiva, ya sea de padres y/o niños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n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Calibri"/>
              </a:rPr>
              <a:t>Preparando a los voluntario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64600" indent="-26460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Registro de niño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90000"/>
              </a:lnSpc>
              <a:spcBef>
                <a:spcPts val="476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9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Asista a los padres a llenar los formularios de datos (Ver ejemplar de Formulario de Asesoramiento)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90000"/>
              </a:lnSpc>
              <a:spcBef>
                <a:spcPts val="476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90000"/>
              </a:lnSpc>
              <a:spcBef>
                <a:spcPts val="476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9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Apunte la información de contacto/emergencia de los padres de familia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90000"/>
              </a:lnSpc>
              <a:spcBef>
                <a:spcPts val="476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90000"/>
              </a:lnSpc>
              <a:spcBef>
                <a:spcPts val="476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9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Designe a alguien a tomar fotos (niños, padres de familia, parientes)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90000"/>
              </a:lnSpc>
              <a:spcBef>
                <a:spcPts val="476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90000"/>
              </a:lnSpc>
              <a:spcBef>
                <a:spcPts val="476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9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Organice tablas de información familiar (cuando posible, una tabla por cada niño</a:t>
            </a:r>
            <a:r>
              <a:rPr b="0" lang="en-US" sz="19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)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2" marL="886680" indent="-238680">
              <a:lnSpc>
                <a:spcPct val="90000"/>
              </a:lnSpc>
              <a:spcBef>
                <a:spcPts val="45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nstantia"/>
              </a:rPr>
              <a:t>Saber quién puede visitar y recoger al niño del centro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886680" indent="-238680">
              <a:lnSpc>
                <a:spcPct val="90000"/>
              </a:lnSpc>
              <a:spcBef>
                <a:spcPts val="45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nstantia"/>
              </a:rPr>
              <a:t>Poner de muestra en un lugar visible para asegurar a los niños, además de facilitar su acceso a los voluntario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Calibri"/>
              </a:rPr>
              <a:t>El centro de refugio en operación 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onstantia"/>
              </a:rPr>
              <a:t>Guías generales para trabajar con niños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El niño puede estar aturdido, en estado de shock, o estar sintiendo algún nivel de falta de asociación que puede empeorar si no se le protege del estímulo que causó la experiencia traumátic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0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nstantia"/>
              </a:rPr>
              <a:t>Donde posible, dirija a los niños a un lugar lejos del desastre y de personas que han sobrevivido pero que están lastimada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0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nstantia"/>
              </a:rPr>
              <a:t>Use palabras bondadosas pero firmes para dar instrucciones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Calibri"/>
              </a:rPr>
              <a:t>Trabajando con los Niño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lvl="1" marL="601200" indent="-231120">
              <a:lnSpc>
                <a:spcPct val="100000"/>
              </a:lnSpc>
              <a:spcBef>
                <a:spcPts val="34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-Conéctarse con personas familiares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2" marL="859320" indent="-231120">
              <a:spcBef>
                <a:spcPts val="3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Constantia"/>
              </a:rPr>
              <a:t>Conéctese con padres de familia y/o parientes en intervalos regulares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2" marL="859320" indent="-231120">
              <a:spcBef>
                <a:spcPts val="3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Constantia"/>
              </a:rPr>
              <a:t>Provea información correcta  sobre el estado de sus familias, en intervalos regulares, cuando el niño lo pida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1" marL="601200" indent="-231120">
              <a:lnSpc>
                <a:spcPct val="100000"/>
              </a:lnSpc>
              <a:spcBef>
                <a:spcPts val="34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-Apoyar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2" marL="859320" indent="-231120">
              <a:spcBef>
                <a:spcPts val="3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Constantia"/>
              </a:rPr>
              <a:t>Ofrezca apoyo, sea compasivo y bondadoso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2" marL="859320" indent="-231120">
              <a:spcBef>
                <a:spcPts val="3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Constantia"/>
              </a:rPr>
              <a:t>Aprenda y use el nombre de los niños, especialmente cuando uno se dirige a ellos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2" marL="859320" indent="-231120">
              <a:spcBef>
                <a:spcPts val="3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Constantia"/>
              </a:rPr>
              <a:t>Use comunicación sin prejuicios, ya sea verbal o no verbalmente, con el niño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2" marL="859320" indent="-231120">
              <a:spcBef>
                <a:spcPts val="3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Constantia"/>
              </a:rPr>
              <a:t>No importa la duración de su estadía, el uso de herramientas terapéuticas le ayuda al niño a reconectar  y reducir el nivel de su angustia causado por su pérdida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1" marL="601200" indent="-231120">
              <a:lnSpc>
                <a:spcPct val="100000"/>
              </a:lnSpc>
              <a:spcBef>
                <a:spcPts val="34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-Triaje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2" marL="859320" indent="-231120">
              <a:spcBef>
                <a:spcPts val="3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Constantia"/>
              </a:rPr>
              <a:t>Observe las necesidades físicas y emocionales (ver los materiales de asesoramiento proveídos en la próxima sesión)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2" marL="859320" indent="-231120">
              <a:spcBef>
                <a:spcPts val="3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Constantia"/>
              </a:rPr>
              <a:t>Haga triaje con médicos y profesionales de salud mental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3" marL="1116000" indent="-196920">
              <a:spcBef>
                <a:spcPts val="3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Constantia"/>
              </a:rPr>
              <a:t>En términos de local y de protocolo para visitas entre niños y profesionales, arreglos deberán hacerse por avanzado (eg., en el hospital o en un local de emergencia médica)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Calibri"/>
              </a:rPr>
              <a:t>Trabajando con los Niños—cont.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Title 3" descr=""/>
          <p:cNvPicPr/>
          <p:nvPr/>
        </p:nvPicPr>
        <p:blipFill>
          <a:blip r:embed="rId1"/>
          <a:stretch/>
        </p:blipFill>
        <p:spPr>
          <a:xfrm>
            <a:off x="523800" y="1311120"/>
            <a:ext cx="7785000" cy="14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Calibri"/>
              </a:rPr>
              <a:t>Visión general: Creando un Ambiente Seguro para su Niño Después de un  Desastre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2362320"/>
            <a:ext cx="82296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nstantia"/>
              </a:rPr>
              <a:t>Después de un desastre todo niño necesita estar en un lugar seguro, lejos del peligro y de otras experiencias que le puedan causar más angustia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nstantia"/>
              </a:rPr>
              <a:t>Los padres y guardianes necesitan tener acceso a un lugar donde puedan dejar a sus niños mientras que ellos consiguen trabajo, encuentran vivienda segura, procuran comida, agua, etc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nstantia"/>
              </a:rPr>
              <a:t>Para poder desarrollar un ambiente seguro se requiere planificación, además de consideración de las necesidades de los niños después de un desastre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457200" y="213336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nstantia"/>
              </a:rPr>
              <a:t>Estableciendo un medio ambiente seguro para sus niños requiere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Protección- establecer una zona/ un centro de refugio seguro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Dirección- guiar a otros a  áreas lejos del desastr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Conexión- estar en contacto con padres y parientes en  intervalos regulare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Apoyo- proveer un medio ambiente seguro  (</a:t>
            </a:r>
            <a:r>
              <a:rPr b="0" i="1" lang="es-MX" sz="20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2da sesión</a:t>
            </a:r>
            <a:r>
              <a:rPr b="0" lang="es-MX" sz="20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Triaje- asesorar de manera general las necesidades físicas y emocionales, haciendo triaje con profesionales avanzados cuando apropiado (</a:t>
            </a:r>
            <a:r>
              <a:rPr b="0" i="1" lang="es-MX" sz="20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2da sesión</a:t>
            </a:r>
            <a:r>
              <a:rPr b="0" lang="es-MX" sz="20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Calibri"/>
              </a:rPr>
              <a:t>Visión general: Creando un Ambiente Seguro para su Niño Después de un  Desastre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457200" y="1752120"/>
            <a:ext cx="822960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53440" indent="-253440"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La preparación es clave: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594720" indent="-228600"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- Conozca su comunidad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594720" indent="-228600"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594720" indent="-228600"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-</a:t>
            </a:r>
            <a:r>
              <a:rPr b="0" lang="es-MX" sz="20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 Considere cuántos locales se van a necesitar, eg., los suficientes para tratar a los niños de la comunidad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594720" indent="-228600"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594720" indent="-228600"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-</a:t>
            </a:r>
            <a:r>
              <a:rPr b="0" lang="es-MX" sz="20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 Trabaje con otras iglesias y grupos comunitarios para establecer un plan de cómo crear y tener listos centros de refugios múltiple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850320" indent="-228960">
              <a:spcBef>
                <a:spcPts val="4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nstantia"/>
              </a:rPr>
              <a:t>Proveen más acceso en los vecindarios (eg. la distancia entre vecindarios tomando en cuenta transporte limitado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850320" indent="-228960">
              <a:spcBef>
                <a:spcPts val="4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nstantia"/>
              </a:rPr>
              <a:t>Permiten el encuentro de grupos pequeños para niños del vecindario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850320" indent="-228960">
              <a:spcBef>
                <a:spcPts val="4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nstantia"/>
              </a:rPr>
              <a:t>Proveen mas familiaridad que un local donde los niños no se conocen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500" spc="-1" strike="noStrike">
                <a:solidFill>
                  <a:srgbClr val="ffffff"/>
                </a:solidFill>
                <a:latin typeface="Calibri"/>
              </a:rPr>
              <a:t>Protección- establecer una zona/ un centro de refugio seguro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Identificando sitios/locales alternativos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El local alternativo provee mejor preparación ya que uno nunca sabe cuándo va a suceder un desastre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Identifique diferentes locales comunitarios (Iglesias, escuelas, centros comunitarios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Identifique aéreas abiertas donde centros de refugios temporarios puedan ser instalado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500" spc="-1" strike="noStrike">
                <a:solidFill>
                  <a:srgbClr val="ffffff"/>
                </a:solidFill>
                <a:latin typeface="Calibri"/>
              </a:rPr>
              <a:t>Localizando los mejores sitios para las Zonas de Seguridad para Niños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457200" y="22093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Visite cada local alternativo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00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Explore para determinar si existen problemas de seguridad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00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00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Evite locales donde se encuentre posible peligro (eg., zonas de construcción peligrosas, la exposición de toxinas, agua profunda, lugares donde se pueda caer un niño, animales, otros elementos peligrosos, etc.)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00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Todos los sitios seleccionados tienen que tener manera de ser asegurados (eg., protección contra intrusos, individuos depredadores que buscan abusar o explotar a niños)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00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Todos los sitios deben ser accesibles (eg., proximidad a facilidades médicas y otros recursos, acceso a transporte público)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nstantia"/>
              </a:rPr>
              <a:t>Tenga un acuerdo por adelantado que detalle la disponibilidad del local en situaciones de emergencia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500" spc="-1" strike="noStrike">
                <a:solidFill>
                  <a:srgbClr val="ffffff"/>
                </a:solidFill>
                <a:latin typeface="Calibri"/>
              </a:rPr>
              <a:t>Localizando los mejores sitios para las Zonas de Seguridad para Niños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380880" y="16761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nstantia"/>
              </a:rPr>
              <a:t>Identifique una bodega para almacenar suministros (idealmente en el mismo local que va a ser utilizado como centro de refugio/zona de seguridad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Suministros de emergencia (eg., agua, primeros auxilios, lámpara de mano, baterías, radio, etc.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Comida/bocadillos (7-10 días)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Platos, vasos, cucharas, tenedores, toallas de papel, etc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Cobija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Pañale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Productos de higiene personal para adolescentes (jabón de baño, cepillo de dientes, pasta de dientes, desodorante, higiene femenina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Lupa o lentes para niños con problemas de visión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Ropa (diferentes tamaños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500" spc="-1" strike="noStrike">
                <a:solidFill>
                  <a:srgbClr val="ffffff"/>
                </a:solidFill>
                <a:latin typeface="Calibri"/>
              </a:rPr>
              <a:t>Identificando y asegurando suministros por avanzado 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Útiles escolares (papel, lápices, plumas, tiza, colores para pintar, etc.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Juguetes (considere darle a cada niño su propio juguete cuando lleguen al centro de refugio—un juguete que se puedan llevar cuando se vayan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Juegos de mesa (para diferentes edades, incluyendo adolescentes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Materiales de arte (papel, pinturas de agua, pinceles, tijeras, pegamento, etc.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Libros (para diferentes edades, incluyendo adolescentes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Productos de limpieza (jabón, detergente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Cámara (la habilidad de crear y mostrar fotos instantáneas de los niños y sus familias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Teléfono (considere otros medios de contacto que no requieran el uso de electricidad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Calibri"/>
              </a:rPr>
              <a:t>Suministros cont.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59200" indent="-25920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Elabore reglamentos para el centro de refugio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-2332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-</a:t>
            </a:r>
            <a:r>
              <a:rPr b="0" lang="es-MX" sz="20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Ejemplos de pautas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868680" indent="-233640">
              <a:lnSpc>
                <a:spcPct val="80000"/>
              </a:lnSpc>
              <a:spcBef>
                <a:spcPts val="45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nstantia"/>
              </a:rPr>
              <a:t>Nadie, con la excepción del adulto designado/aprobado, es permitido llevarse al niño del centro de refugio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868680" indent="-233640">
              <a:lnSpc>
                <a:spcPct val="80000"/>
              </a:lnSpc>
              <a:spcBef>
                <a:spcPts val="45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nstantia"/>
              </a:rPr>
              <a:t>Solamente los individuos con acceso autorizado son permitidos en la Zona de Seguridad para Niño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868680" indent="-233640">
              <a:lnSpc>
                <a:spcPct val="80000"/>
              </a:lnSpc>
              <a:spcBef>
                <a:spcPts val="45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nstantia"/>
              </a:rPr>
              <a:t>Los padres de familia tienen que llenar formularios de datos antes de dejar a sus niños en el centro de refugio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868680" indent="-233640">
              <a:lnSpc>
                <a:spcPct val="80000"/>
              </a:lnSpc>
              <a:spcBef>
                <a:spcPts val="45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nstantia"/>
              </a:rPr>
              <a:t>Ambos, los padres de familia y sus niños tienen que tomarse fotos al registrarse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868680" indent="-233640">
              <a:lnSpc>
                <a:spcPct val="80000"/>
              </a:lnSpc>
              <a:spcBef>
                <a:spcPts val="45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nstantia"/>
              </a:rPr>
              <a:t>Los voluntarios tienen que estar pendientes de los niños bajo su cargo en todo momento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868680" indent="-233640">
              <a:lnSpc>
                <a:spcPct val="80000"/>
              </a:lnSpc>
              <a:spcBef>
                <a:spcPts val="45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nstantia"/>
              </a:rPr>
              <a:t>La comunicación debe ser positiva y debe reducir conflicto y angustia, en todo momento, entre padres de familia, niños, y voluntario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868680" indent="-233640">
              <a:lnSpc>
                <a:spcPct val="80000"/>
              </a:lnSpc>
              <a:spcBef>
                <a:spcPts val="45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nstantia"/>
              </a:rPr>
              <a:t>Los padres de familia y parientes aprobados deben registrarse en el centro de refugio antes de poder entrar a proveerle asistencia y comodidad a sus niño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Calibri"/>
              </a:rPr>
              <a:t>Lineamientos/Reglamento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02T01:37:54Z</dcterms:created>
  <dc:creator>Carol</dc:creator>
  <dc:description/>
  <dc:language>en-US</dc:language>
  <cp:lastModifiedBy>Jeminaeh</cp:lastModifiedBy>
  <dcterms:modified xsi:type="dcterms:W3CDTF">2012-07-10T03:46:38Z</dcterms:modified>
  <cp:revision>69</cp:revision>
  <dc:subject/>
  <dc:title>Creating Child Safe Environments After a Disaster</dc:title>
</cp:coreProperties>
</file>